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elling the dynamics of dengue real epide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28 December 2010 vol. 368 no. 1933 5679-569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sta.royalsocietypublishing.org/content/368/1933/5679.fu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4C12-87F0-4D6E-8CB4-F63911B44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1E76-76BB-4E69-9CD2-86029536B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1BCB-CA36-4127-9FDB-3D64F6B57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6B7F-8151-41D9-A06B-95FB38048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34EF-8B9A-4F81-952E-A9D97EF486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9E5D1-28F4-4260-B0F2-9E75746D7E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3ED4-D834-4AB6-A639-C5B619AA1D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3822-6838-43A8-B454-B5E9959897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7B78-2EB1-475E-9A5D-735BD62B81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EC9B6-09E5-417E-90A1-C430A739ED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854B-428A-4436-A036-2E4E294B8D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0969-7969-47A6-8CAF-D87CFE3BD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6E47-03B1-4577-8F4B-F36141B0D1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A6DF-6B8F-4085-B0C0-90A40F13EC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F00B-BE8D-4611-885B-A529AE5132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C6DA-50B3-446B-884C-5569EA8035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FF98B-5C35-4D1B-B381-C14A27C959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4C4A-4DA8-49CA-9143-4BE1C09A7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8C44-42F8-4AB3-8A98-B024D20EE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0014-91D4-4640-93FC-E9528C200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D032-E129-446E-91D1-04FFD3AED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A4B28-6B44-40F0-8CB5-848D889BA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3F3C-C665-4193-8FE8-9411F6454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B85D-A82A-48A7-90CA-A0CFD204D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380880"/>
            <a:ext cx="8229600" cy="609840"/>
          </a:xfrm>
          <a:prstGeom prst="pie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ìnpe_simbolo.jpg" descr="ìnpe_simbolo.jpg"/>
          <p:cNvPicPr/>
          <p:nvPr/>
        </p:nvPicPr>
        <p:blipFill>
          <a:blip r:embed="rId2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DE6E-8804-4E36-A68C-097158DDE8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229600" cy="609840"/>
          </a:xfrm>
          <a:prstGeom prst="pie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ìnpe_simbolo.jpg" descr="ìnpe_simbolo.jpg"/>
          <p:cNvPicPr/>
          <p:nvPr/>
        </p:nvPicPr>
        <p:blipFill>
          <a:blip r:embed="rId2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1066680"/>
            <a:ext cx="2867040" cy="3156120"/>
            <a:chOff x="0" y="1066680"/>
            <a:chExt cx="2867040" cy="3156120"/>
          </a:xfrm>
        </p:grpSpPr>
        <p:sp>
          <p:nvSpPr>
            <p:cNvPr id="46" name=""/>
            <p:cNvSpPr/>
            <p:nvPr/>
          </p:nvSpPr>
          <p:spPr>
            <a:xfrm>
              <a:off x="573120" y="358200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16120" y="1690200"/>
              <a:ext cx="57456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1320" y="1066680"/>
              <a:ext cx="58572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41560" y="3582000"/>
              <a:ext cx="58392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81320" y="1690200"/>
              <a:ext cx="58572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1560" y="2323440"/>
              <a:ext cx="58392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323440"/>
              <a:ext cx="58248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2323440"/>
              <a:ext cx="57456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312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41560" y="2946960"/>
              <a:ext cx="58392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logocomp.png" descr="logocomp"/>
          <p:cNvPicPr/>
          <p:nvPr/>
        </p:nvPicPr>
        <p:blipFill>
          <a:blip r:embed="rId3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378640" y="6397200"/>
            <a:ext cx="306360" cy="30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A451-0F8C-456A-8566-FEEAB24541E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Epidemic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ão José dos Campos,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Epidemic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2" name="image.png" descr=""/>
          <p:cNvPicPr/>
          <p:nvPr/>
        </p:nvPicPr>
        <p:blipFill>
          <a:blip r:embed="rId1"/>
          <a:srcRect l="4783" t="0" r="0" b="50281"/>
          <a:stretch/>
        </p:blipFill>
        <p:spPr>
          <a:xfrm>
            <a:off x="415800" y="1266840"/>
            <a:ext cx="8691840" cy="4032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540400"/>
            <a:ext cx="8064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Humnst777 BT"/>
                <a:ea typeface="Humnst777 BT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Humnst777 BT"/>
                <a:ea typeface="Humnst777 BT"/>
              </a:rPr>
              <a:t>In epidemiology, an epidemic occurs when new cases of a certain disease, in a given human population, and during a given period, substantially exceed what is expected based on recent experience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.png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269760" y="6496200"/>
            <a:ext cx="2718000" cy="32004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ource: Viboud and Chowell (NI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.png" descr=""/>
          <p:cNvPicPr/>
          <p:nvPr/>
        </p:nvPicPr>
        <p:blipFill>
          <a:blip r:embed="rId1"/>
          <a:stretch/>
        </p:blipFill>
        <p:spPr>
          <a:xfrm>
            <a:off x="-17640" y="0"/>
            <a:ext cx="91792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44200" y="6526080"/>
            <a:ext cx="2718000" cy="32004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ource: Viboud and Chowell (NI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.png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0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941440" y="6381720"/>
            <a:ext cx="3237840" cy="3661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Viboud and Chowell (NI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Epidemic dynamics (SIR model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16000" y="2425680"/>
            <a:ext cx="7147080" cy="1940040"/>
            <a:chOff x="1116000" y="2425680"/>
            <a:chExt cx="7147080" cy="1940040"/>
          </a:xfrm>
        </p:grpSpPr>
        <p:pic>
          <p:nvPicPr>
            <p:cNvPr id="112" name="image.png" descr=""/>
            <p:cNvPicPr/>
            <p:nvPr/>
          </p:nvPicPr>
          <p:blipFill>
            <a:blip r:embed="rId1"/>
            <a:stretch/>
          </p:blipFill>
          <p:spPr>
            <a:xfrm>
              <a:off x="1116000" y="2425680"/>
              <a:ext cx="7147080" cy="19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002040" y="2425680"/>
              <a:ext cx="576000" cy="64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4720" y="2436480"/>
              <a:ext cx="576000" cy="64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Epidemic dynamics (SIR model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cks: susceptible, infected, and recov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 stocks:  susceptible = 9998, infected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t = 1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 time = 30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tion of an infection: 2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infected comes into contact 6 with other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5% of the contacts are enough to cause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Epidemic dynamics (SIR model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cks: susceptible, infected, and recov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 stocks:  susceptible = 9998, infected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t = 1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 time = 30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tion of an infection: 2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infected comes into contact 6 with other peopl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but can only infect the susceptible 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5% of the contacts are enough to cause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ome scenario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tion of the infection: 2, 4, 8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cts that cause infection: 50%, 25%, 12.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number of contacts is cut by half when the infections reach 2000 or 1000 due to an educational campaig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